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90E-E29E-4353-8D2B-9E8139C7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B92-47C1-4523-A271-52893696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AB268-6E59-4C28-ABB4-5397C4E7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ECA1E-515C-4630-84D8-BE3E615F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85A94-56FF-4B71-8F17-4F8AC6F4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3C15A1-CFB7-4EEA-8DEA-FD1FF7DA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4B147-E7C4-41BC-AFB5-B4FCB8D1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41206-1BA6-4131-A3EF-5E1CE4F8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A6A194-4881-4AA2-AC10-16CD35DB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5AB02-FAB8-4780-9E47-4F525476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5EF5E0-8529-48C6-800F-4700E5A0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BB015B-E54B-4358-BC18-4846F7BF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143-5A30-463A-8440-C7FAE21C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7C698-11AB-4665-80EE-875E9CAD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2C756-7B51-4F42-AA03-E825AE84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A4CA4-C1ED-48C2-9903-256C3D7F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A85F88-F3B8-48AC-B030-4A1BCCA7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50ADA9-5A4C-44A3-BA3A-F825FD2B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7C5EE-D7B5-4132-B8FC-D26C5376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15FB6-28A2-409B-B45C-AF889DF8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5F450E-FCFF-4833-92F0-489AF0F8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48A55-427D-47A5-B9C0-9156F0D4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9BD452-396D-4530-96ED-158D967C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4D2-1185-4533-85C5-4B5ADE0C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A88C3-0E3E-4D0A-B14B-8652152B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A7033-07D0-403F-B183-A065CD7C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1CBDC-ADDF-4D22-90E8-523E5E8D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86017-B112-4421-888C-55E2877B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09F49-A360-47D0-AF0F-5BD0A2D8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7795F-1FBA-4559-A159-349BECE3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F65E1-35B4-4256-996A-CA3A6A2F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5FFAE-688B-46A6-9A52-15888658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F384F-F540-4A01-A49A-BA5C73BB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E72E6-1830-4C37-B9D4-1988EEFE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762A-8BA5-457C-9DA4-B7F83A11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007E3-51BC-40B1-9754-BEF114D9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7DED9-0FC4-4780-B6E5-C046C8CB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09729-066A-4506-9F46-C01414CA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083685-5477-44EB-8E1E-BBE645F1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76A38-B0BC-4D15-8645-CE1D377B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98BF0A-D315-4A23-A78C-B1FE0952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BAC29-1BEE-4A46-B70A-2181D8C8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6AD0FC-EFDD-4582-ADCA-2F71F948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B12582-AFD8-41A0-8805-5D1AAB53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37BCE-2367-4C59-AD1C-EAC9B579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5A82-9F3C-4910-B4D6-186394C0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86378-3525-4466-9422-95482ED5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EF9B7B-189B-48B5-9969-AF6C9BC4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007B82-248D-465B-83B3-D94DAE88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26D8BF-4040-4971-BB83-F9A9A086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2E5F0-0702-439A-8F5D-89961A44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4230-A6BF-47CC-9E56-D5B782DC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0BDE-B407-4F18-9B5F-BCAA609B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066E-7A00-4B31-A007-F312BB6C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3AC5-FE93-4443-B335-852FBA22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6934-D89C-48E7-8F95-BEBCE847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7B2-09DC-403D-9616-4A4762EE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3D64-4E7C-4424-8AF1-BD37553D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7D0F-731A-45E8-B4F7-EECB9BFF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8497-D286-4A16-806F-9DABC1BC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E7C4-7DD6-4186-A89E-C4911528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FDB8-88C3-41E6-856A-DC462FCD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E27DF-1688-4064-A583-2D7323F7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E1A2A-CD5D-46D5-A79C-C23BFA77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DFCD5-0FAD-4E77-9725-3643014A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31186-C3E7-487C-81C2-907849EE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E3EA0-9071-469D-BF18-9407822F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8AA9-9639-4DEF-9B66-2D04B4FF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47316-D882-4D4C-8A5B-6D90A1EB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AD8E6-5348-41A2-BB89-3F90F611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BEC87-0FF0-477B-BB94-6E3C8CE9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A5C8B-FF1C-4786-96EC-4DE2EFAA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05590-5FCF-402B-93D2-37B42DDA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A43FE-E6A0-4E96-918C-631ECE3E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329B9-39D7-4E68-A003-B0E0A55A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A257D-37C0-4810-AF89-6FE11157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5F9A6-0C83-4BE2-A400-AFA9A803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808D8-1587-4260-9707-5985124A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E98-57ED-4B1D-A5E7-EA3E2D52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233A7-3A10-4E23-839E-3B49A5C8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304BB-7B80-4C0B-ADC7-C6F67ABC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71B70-1524-410B-A681-6C3D5686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E24DE-F53B-49F1-B55C-B5A67543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11BD7-0BBA-412F-A1D5-C5A59398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2DE9E-1FF9-4E41-A0A5-ADC8390E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EA0A0-2665-4262-9C8C-C41B5EF1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6E4AE-EC98-40E8-BF0D-C94996E7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327A7-FC4F-4FA9-945E-C6A547E4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3194D-8E88-49E3-9A8E-1884D47A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EDE-2DC0-4E67-8820-24F96AD6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C3B02-2981-4FA0-BBC3-E1ACA033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4C4F4-2D71-42D8-8735-F62F4530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AB3B5-D183-463E-9B12-DEBA8871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86C15-660C-4962-BA1A-43F55CBD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69760-F73C-4610-B933-89A79A39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80EE5-F046-4614-9121-D405676D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09BA5-C6D2-4180-A10F-4B3C6391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E61BD-B712-4A6B-8FB7-1A4ECDAA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AF57F-3909-4FBA-BD67-95CFC06A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82D6A-0709-4684-851C-481AD2E1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1929-63AA-451B-A517-892DC26A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FA60B-B849-46E3-88D7-4BECAE68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C75BB-A381-4F1C-9F01-29B9B68A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0FCFE-D19F-44EC-AD1D-DEF0E5D1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237EA-57B8-4BB3-8651-DD613790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4314E-2364-48EB-A305-C0728662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3CB85-CAA3-45B9-BE7A-D20AEA74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65A6D-E4E6-45A9-81D6-F9AEE12B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85033-7708-44A6-90CC-CA7A2C90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6FB7B-1266-48D0-BDA4-9DC9E6F4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70A53-D4B5-4FBC-8B6C-1EAE1380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98D6-5722-4982-8235-8D225C06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7308E-70D4-4DA5-A943-BCA0AFFD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B5E47-CE47-43EE-A200-2B944EBC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32E27-AF6E-41CA-9CC2-DA1A52D7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E30BB-4A09-4AD4-8C10-353C9953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5BDED-60F5-4FA8-B881-A614066B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08827-F591-413B-9ACA-63774323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0AA00-B973-4F52-8404-9AE88D76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AFD4D-DD1C-41F5-938A-45EE6A39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44E4B-B2BB-497D-BC52-29223EF4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53ACF-7A2B-4AAD-9EF0-DC557096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1561-906B-4F92-BB50-75777768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2020F-E10E-4FF2-9244-040A2EEF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914AB-5F12-44B2-9ABE-BBD61FAE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187AF-A8E8-4D2E-80BD-B6CCA4FC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5F423-2FD4-4FB4-B086-1D5A7A15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2E29C-0538-40FC-A4EB-D81C62BC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4098A-C59E-4BFF-874D-20DBD88F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30454-2B1A-4B8C-AFB7-7E028A2C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D2CF0-E1B0-4BE5-8E0C-B8DDE1B5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F9B61-326D-4CD6-AA28-08B31417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812AF-763A-426D-B716-A9341F78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62D-D879-434C-9CD4-E62C359B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B389B-0790-4C0E-8870-064F2B37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D5440-CDFD-4E6E-AC38-6B53A4BA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55AC8-A495-48C2-B243-DCD66F14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324C8-6298-47F8-8DAA-E445B4A8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084BC-CF00-4EF1-89F9-2D08A0FF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BEE30-9239-45A7-9644-54308759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C8EF6-C680-45DB-B3FA-54DC62F1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008B5-1750-4894-BA69-AF6A25A4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07DBF7-CA85-40EC-B59E-320B6CEC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B3E43-E9D9-46AE-AD2D-0B5EB640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8557-5D56-4C94-9803-8BFEBF831E28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Łącznik prosty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rostokąt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rostokąt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rostokąt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rostokąt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rostokąt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rostokąt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rostokąt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rostokąt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8B4A-F13A-4A34-96BC-F9D20AB604F0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F615-7A66-4BD5-A36A-E2FE44D98E27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rostokąt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rostokąt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rostokąt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rostokąt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Prostokąt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Prostokąt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Łącznik prosty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Elipsa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Elipsa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624C-FC5D-4E06-ADF6-276B18544CF1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rostokąt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rostokąt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rostokąt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rostokąt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Łącznik prosty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rostokąt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Elipsa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Elipsa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3F76-A927-447B-9D9B-77DCC409A5B0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15DB-422A-49C1-9E43-056AA76E5515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rostokąt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rostokąt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rostokąt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rostokąt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rostokąt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rostokąt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rostokąt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rostokąt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Łącznik prosty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Elipsa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Elipsa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7F78-B42D-4286-94B4-BA71C190B436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Łącznik prosty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670E-9D19-464B-850E-A470DE2CF3E7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Łącznik prosty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rostokąt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rostokąt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rostokąt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rostokąt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rostokąt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rostokąt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Łącznik prosty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rostokąt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Elipsa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Elipsa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5765-1FBC-4CFD-83FB-6CA2EA686542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738D-3C00-4A14-9F1B-89ACEACC829C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rostokąt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rostokąt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rostokąt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rostokąt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rostokąt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rostokąt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D111-73A6-484C-ADF7-A51329DD5DF3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rostokąt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rostokąt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rostokąt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rostokąt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rostokąt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rostokąt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rostokąt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Łącznik prosty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rostokąt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3AC3-5E7A-4ED5-BC78-559653150B07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Arial"/>
                <a:ea typeface="Arial"/>
              </a:rPr>
              <a:t>Znaki bezpieczeństwa</a:t>
            </a:r>
            <a:br>
              <a:rPr sz="4800"/>
            </a:br>
            <a:r>
              <a:rPr b="0" lang="pl-PL" sz="4800" spc="-1" strike="noStrike">
                <a:solidFill>
                  <a:srgbClr val="ff0000"/>
                </a:solidFill>
                <a:latin typeface="Arial"/>
                <a:ea typeface="Arial"/>
              </a:rPr>
              <a:t>BHP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2" descr="C:\Users\Marzena\AppData\Local\Microsoft\Windows\Temporary Internet Files\Content.IE5\8XW2J9XG\MC900319244[1].wmf"/>
          <p:cNvPicPr/>
          <p:nvPr/>
        </p:nvPicPr>
        <p:blipFill>
          <a:blip r:embed="rId1"/>
          <a:stretch/>
        </p:blipFill>
        <p:spPr>
          <a:xfrm>
            <a:off x="2916360" y="2997360"/>
            <a:ext cx="313056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Arial"/>
                <a:ea typeface="Arial"/>
              </a:rPr>
              <a:t>Znaki, tablice i piktogramy bhp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13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Georgia"/>
              </a:rPr>
              <a:t>Znaki bezpieczeństwa</a:t>
            </a: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 – zestaw symboli dotyczących przestrzegania zasad bezpieczeństwa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i higieny stosowany w miejscach użyteczności publicznej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i w zakładach prac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13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Georgia"/>
              </a:rPr>
              <a:t>Oznakowanie bezpieczeństwa 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14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znaki,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14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tablice ,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14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piktogramy 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333000"/>
            <a:ext cx="8534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pl-PL" sz="4000" spc="-1" strike="noStrike">
                <a:solidFill>
                  <a:srgbClr val="ff0000"/>
                </a:solidFill>
                <a:latin typeface="Arial"/>
                <a:ea typeface="Arial"/>
              </a:rPr>
              <a:t>Znaki, tablice i piktogramy bhp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Stosuje się na stanowiskach pracy, gdzie występuje zagrożenie dla życia lub zdrowia pracowników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Znaki bhp mają za zadanie </a:t>
            </a:r>
            <a:r>
              <a:rPr b="1" lang="pl-PL" sz="2700" spc="-1" strike="noStrike">
                <a:solidFill>
                  <a:srgbClr val="000000"/>
                </a:solidFill>
                <a:latin typeface="Georgia"/>
              </a:rPr>
              <a:t>poinformować</a:t>
            </a: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o występującym niebezpieczeństw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Znaki bhp mają również za zadanie </a:t>
            </a:r>
            <a:r>
              <a:rPr b="1" lang="pl-PL" sz="2700" spc="-1" strike="noStrike">
                <a:solidFill>
                  <a:srgbClr val="000000"/>
                </a:solidFill>
                <a:latin typeface="Georgia"/>
              </a:rPr>
              <a:t>zakazać </a:t>
            </a: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pracownikom wykonywania czynności zabronionych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Znaki bhp bardzo często spełniają funkcję </a:t>
            </a:r>
            <a:r>
              <a:rPr b="1" lang="pl-PL" sz="2700" spc="-1" strike="noStrike">
                <a:solidFill>
                  <a:srgbClr val="000000"/>
                </a:solidFill>
                <a:latin typeface="Georgia"/>
              </a:rPr>
              <a:t>ostrzegawczą, </a:t>
            </a: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ostrzegając pracowników przed zagrożeniem np. wysoka temperatura lub inne niebezpieczeństwo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ff0000"/>
                </a:solidFill>
                <a:latin typeface="Arial"/>
                <a:ea typeface="Arial"/>
              </a:rPr>
              <a:t>ZNAKI INFORMACYJN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Picture 2" descr="Plik:E003.svg"/>
          <p:cNvPicPr/>
          <p:nvPr/>
        </p:nvPicPr>
        <p:blipFill>
          <a:blip r:embed="rId1"/>
          <a:stretch/>
        </p:blipFill>
        <p:spPr>
          <a:xfrm>
            <a:off x="611280" y="1989000"/>
            <a:ext cx="2160360" cy="2159280"/>
          </a:xfrm>
          <a:prstGeom prst="rect">
            <a:avLst/>
          </a:prstGeom>
          <a:ln w="0">
            <a:noFill/>
          </a:ln>
        </p:spPr>
      </p:pic>
      <p:sp>
        <p:nvSpPr>
          <p:cNvPr id="614" name="Prostokąt 3"/>
          <p:cNvSpPr/>
          <p:nvPr/>
        </p:nvSpPr>
        <p:spPr>
          <a:xfrm>
            <a:off x="324000" y="429264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ierwsza pomoc medyczn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2" descr="Plik:E005.svg"/>
          <p:cNvPicPr/>
          <p:nvPr/>
        </p:nvPicPr>
        <p:blipFill>
          <a:blip r:embed="rId2"/>
          <a:stretch/>
        </p:blipFill>
        <p:spPr>
          <a:xfrm>
            <a:off x="6588000" y="220500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616" name="Prostokąt 5"/>
          <p:cNvSpPr/>
          <p:nvPr/>
        </p:nvSpPr>
        <p:spPr>
          <a:xfrm>
            <a:off x="6531480" y="4365720"/>
            <a:ext cx="23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ysznic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bezpieczeństw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Plik:PN Telefon awaryjny.svg"/>
          <p:cNvPicPr/>
          <p:nvPr/>
        </p:nvPicPr>
        <p:blipFill>
          <a:blip r:embed="rId3"/>
          <a:stretch/>
        </p:blipFill>
        <p:spPr>
          <a:xfrm>
            <a:off x="3635280" y="2781360"/>
            <a:ext cx="2160720" cy="2158920"/>
          </a:xfrm>
          <a:prstGeom prst="rect">
            <a:avLst/>
          </a:prstGeom>
          <a:ln w="0">
            <a:noFill/>
          </a:ln>
        </p:spPr>
      </p:pic>
      <p:sp>
        <p:nvSpPr>
          <p:cNvPr id="618" name="Prostokąt 7"/>
          <p:cNvSpPr/>
          <p:nvPr/>
        </p:nvSpPr>
        <p:spPr>
          <a:xfrm>
            <a:off x="3491280" y="522936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Telefon awaryjn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ZNAKI  PRZECIWPOŻAROWE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Picture 2" descr="Extincteur.svg"/>
          <p:cNvPicPr/>
          <p:nvPr/>
        </p:nvPicPr>
        <p:blipFill>
          <a:blip r:embed="rId1"/>
          <a:stretch/>
        </p:blipFill>
        <p:spPr>
          <a:xfrm>
            <a:off x="684360" y="1989000"/>
            <a:ext cx="2158920" cy="21592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F003.svg"/>
          <p:cNvPicPr/>
          <p:nvPr/>
        </p:nvPicPr>
        <p:blipFill>
          <a:blip r:embed="rId2"/>
          <a:stretch/>
        </p:blipFill>
        <p:spPr>
          <a:xfrm>
            <a:off x="6443640" y="1989000"/>
            <a:ext cx="2160720" cy="2159280"/>
          </a:xfrm>
          <a:prstGeom prst="rect">
            <a:avLst/>
          </a:prstGeom>
          <a:ln w="0">
            <a:noFill/>
          </a:ln>
        </p:spPr>
      </p:pic>
      <p:sp>
        <p:nvSpPr>
          <p:cNvPr id="622" name="pole tekstowe 5"/>
          <p:cNvSpPr/>
          <p:nvPr/>
        </p:nvSpPr>
        <p:spPr>
          <a:xfrm>
            <a:off x="611280" y="4292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Gaśnic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ole tekstowe 7"/>
          <p:cNvSpPr/>
          <p:nvPr/>
        </p:nvSpPr>
        <p:spPr>
          <a:xfrm>
            <a:off x="5975280" y="4365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Hydrant wewnętrzn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6" descr="Plik:D-P001 Rauchen verboten.svg"/>
          <p:cNvPicPr/>
          <p:nvPr/>
        </p:nvPicPr>
        <p:blipFill>
          <a:blip r:embed="rId3"/>
          <a:stretch/>
        </p:blipFill>
        <p:spPr>
          <a:xfrm>
            <a:off x="3492360" y="299736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625" name="Prostokąt 9"/>
          <p:cNvSpPr/>
          <p:nvPr/>
        </p:nvSpPr>
        <p:spPr>
          <a:xfrm>
            <a:off x="2652120" y="5229360"/>
            <a:ext cx="37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alenie tytoniu zabronio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ZNAKI OSTRZEGAWCZE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Prostokąt 4"/>
          <p:cNvSpPr/>
          <p:nvPr/>
        </p:nvSpPr>
        <p:spPr>
          <a:xfrm>
            <a:off x="0" y="393372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strzeżeni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zed porażeniem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ądem elektryczny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Picture 4" descr="Plik:D-W028 Warnung vor Rutschgefahr.svg"/>
          <p:cNvPicPr/>
          <p:nvPr/>
        </p:nvPicPr>
        <p:blipFill>
          <a:blip r:embed="rId1"/>
          <a:stretch/>
        </p:blipFill>
        <p:spPr>
          <a:xfrm>
            <a:off x="6227640" y="1557360"/>
            <a:ext cx="2460600" cy="21589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6" descr="Plik:DIN 4844-2 Warnung vor gef el Spannung D-W008.svg"/>
          <p:cNvPicPr/>
          <p:nvPr/>
        </p:nvPicPr>
        <p:blipFill>
          <a:blip r:embed="rId2"/>
          <a:stretch/>
        </p:blipFill>
        <p:spPr>
          <a:xfrm>
            <a:off x="611280" y="1557360"/>
            <a:ext cx="2463840" cy="2158920"/>
          </a:xfrm>
          <a:prstGeom prst="rect">
            <a:avLst/>
          </a:prstGeom>
          <a:ln w="0">
            <a:noFill/>
          </a:ln>
        </p:spPr>
      </p:pic>
      <p:sp>
        <p:nvSpPr>
          <p:cNvPr id="630" name="Prostokąt 7"/>
          <p:cNvSpPr/>
          <p:nvPr/>
        </p:nvSpPr>
        <p:spPr>
          <a:xfrm>
            <a:off x="6372360" y="393372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strzeżeni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zed śliską nawierzchnią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Picture 8" descr="Plik:D-W003 Warnung vor giftigen Stoffen ty.svg"/>
          <p:cNvPicPr/>
          <p:nvPr/>
        </p:nvPicPr>
        <p:blipFill>
          <a:blip r:embed="rId3"/>
          <a:stretch/>
        </p:blipFill>
        <p:spPr>
          <a:xfrm>
            <a:off x="3635280" y="3141720"/>
            <a:ext cx="2460600" cy="2158920"/>
          </a:xfrm>
          <a:prstGeom prst="rect">
            <a:avLst/>
          </a:prstGeom>
          <a:ln w="0">
            <a:noFill/>
          </a:ln>
        </p:spPr>
      </p:pic>
      <p:sp>
        <p:nvSpPr>
          <p:cNvPr id="632" name="Prostokąt 9"/>
          <p:cNvSpPr/>
          <p:nvPr/>
        </p:nvSpPr>
        <p:spPr>
          <a:xfrm>
            <a:off x="2050920" y="5445000"/>
            <a:ext cx="60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strzeżenie przed niebezpieczeństwem zatrucia substancjami toksycznym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ZNAKI ZAKAZU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Picture 2" descr="Plik:D-P003 Fuer Fussgaenger verboten.svg"/>
          <p:cNvPicPr/>
          <p:nvPr/>
        </p:nvPicPr>
        <p:blipFill>
          <a:blip r:embed="rId1"/>
          <a:stretch/>
        </p:blipFill>
        <p:spPr>
          <a:xfrm>
            <a:off x="900000" y="177336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635" name="Prostokąt 4"/>
          <p:cNvSpPr/>
          <p:nvPr/>
        </p:nvSpPr>
        <p:spPr>
          <a:xfrm>
            <a:off x="698040" y="407664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Zakaz przejśc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6" name="Picture 4" descr="Plik:D-P014 Mitfuehren von Tieren verboten.svg"/>
          <p:cNvPicPr/>
          <p:nvPr/>
        </p:nvPicPr>
        <p:blipFill>
          <a:blip r:embed="rId2"/>
          <a:stretch/>
        </p:blipFill>
        <p:spPr>
          <a:xfrm>
            <a:off x="6372360" y="1916280"/>
            <a:ext cx="2160360" cy="2160360"/>
          </a:xfrm>
          <a:prstGeom prst="rect">
            <a:avLst/>
          </a:prstGeom>
          <a:ln w="0">
            <a:noFill/>
          </a:ln>
        </p:spPr>
      </p:pic>
      <p:sp>
        <p:nvSpPr>
          <p:cNvPr id="637" name="Prostokąt 6"/>
          <p:cNvSpPr/>
          <p:nvPr/>
        </p:nvSpPr>
        <p:spPr>
          <a:xfrm>
            <a:off x="6313680" y="4149720"/>
            <a:ext cx="228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Zakaz wstęp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ze zwierzętam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8" name="Picture 6" descr="Plik:D-P006 Zutritt fuer Unbefugte verboten.svg"/>
          <p:cNvPicPr/>
          <p:nvPr/>
        </p:nvPicPr>
        <p:blipFill>
          <a:blip r:embed="rId3"/>
          <a:stretch/>
        </p:blipFill>
        <p:spPr>
          <a:xfrm>
            <a:off x="3635280" y="328464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639" name="Prostokąt 8"/>
          <p:cNvSpPr/>
          <p:nvPr/>
        </p:nvSpPr>
        <p:spPr>
          <a:xfrm>
            <a:off x="2444760" y="544500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Nieupoważnionym wstęp wzbronion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ZNAKI  NAKAZU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Prostokąt 4"/>
          <p:cNvSpPr/>
          <p:nvPr/>
        </p:nvSpPr>
        <p:spPr>
          <a:xfrm>
            <a:off x="21960" y="3933720"/>
            <a:ext cx="36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Nakaz przechodzen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 oznakowanym miejsc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rostokąt 6"/>
          <p:cNvSpPr/>
          <p:nvPr/>
        </p:nvSpPr>
        <p:spPr>
          <a:xfrm>
            <a:off x="6245280" y="4005360"/>
            <a:ext cx="26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Nakaz stosowan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chrony głow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rostokąt 8"/>
          <p:cNvSpPr/>
          <p:nvPr/>
        </p:nvSpPr>
        <p:spPr>
          <a:xfrm>
            <a:off x="2725560" y="580536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Nakaz stosowania ochrony rą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4" name="Picture 2" descr="Plik:D-M010 Fuer Fussgaenger.svg"/>
          <p:cNvPicPr/>
          <p:nvPr/>
        </p:nvPicPr>
        <p:blipFill>
          <a:blip r:embed="rId1"/>
          <a:stretch/>
        </p:blipFill>
        <p:spPr>
          <a:xfrm>
            <a:off x="826920" y="170028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Plik:D-M002 Kopfschutz benutzen.svg"/>
          <p:cNvPicPr/>
          <p:nvPr/>
        </p:nvPicPr>
        <p:blipFill>
          <a:blip r:embed="rId2"/>
          <a:stretch/>
        </p:blipFill>
        <p:spPr>
          <a:xfrm>
            <a:off x="6443640" y="148428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" descr="Plik:D-M006 Handschutz benutzen.svg"/>
          <p:cNvPicPr/>
          <p:nvPr/>
        </p:nvPicPr>
        <p:blipFill>
          <a:blip r:embed="rId3"/>
          <a:stretch/>
        </p:blipFill>
        <p:spPr>
          <a:xfrm>
            <a:off x="3780000" y="371628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6:34:49Z</dcterms:created>
  <dc:creator>Krzysztof</dc:creator>
  <dc:description/>
  <dc:language>en-US</dc:language>
  <cp:lastModifiedBy>Marzena</cp:lastModifiedBy>
  <dcterms:modified xsi:type="dcterms:W3CDTF">2013-08-07T16:17:19Z</dcterms:modified>
  <cp:revision>8</cp:revision>
  <dc:subject/>
  <dc:title>Znaki informacyjne</dc:title>
</cp:coreProperties>
</file>